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CEC5-7365-43D8-AD9B-1A2F39C6C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2747-D581-40F1-9A45-9A5FEF67ACCA}" type="slidenum">
              <a:rPr b="0" lang="en-US" sz="1200" spc="-1" strike="noStrike">
                <a:solidFill>
                  <a:srgbClr val="4648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1E08-28C5-4B3B-97EB-9B6331CE1B2C}" type="slidenum">
              <a:rPr b="0" lang="en-US" sz="1200" spc="-1" strike="noStrike">
                <a:solidFill>
                  <a:srgbClr val="4648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phones, but also mobile gaming devices – another element of mobile connectivity that’s worth think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children have them, particularly the Sony DS, particularly young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phone ownership from Dec 2007 gad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7% of cell phone users talk to their friends on a landline; 33% of cell owners talk to friends every day on land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% had a cell phone in 2004 and 10% of them used it to go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had a pda in 2004, and 2% used it to go online. But with advent of iphone/itouch &amp; bberries more are going online with mobile phones. Price still an issue – data plans are expensive. Cheapest plan for iphone (in DC) =$75 a month pre-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s: 11% use twitter or update a status online – (as of 6 months ago) – twitter users more mobile – more text, more mobile internet, more mobile news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Score Media Metrix chart showing likelihood of twitter use as deviating from the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mscore.com/blog/2009/04/twitter_traffic_explo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chart as – orange line is average likelihood of using twitter. 18-24 year olds are 12% less likely to use twitter than average, 12-17 year olds 41% less likely to tweet. 25-34 years olds are 30% more likely to twitter…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6C9E-36DD-4E2A-A74D-EB596C2365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7327-C017-45C0-ABAD-A77A08AA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EF28-3B8A-4C81-B72F-8C33FA0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D317-45C7-476F-BC3E-4D4EEF05E1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564D-7C43-4969-BA24-CC28B133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93DD7-DC11-4AF9-BB64-96D8B64ED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29D27-6593-4113-AD21-7A2D405A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032B9-7816-4467-B6F1-A0EE6AE0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462CA-0AAF-439B-BDA9-422E2D20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F9304-B1A2-407E-AD46-C218EE66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6F66-6DDB-4146-93AA-68BF69EF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2B303-9AB1-4405-A7F6-F8CB1A41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57F59-126C-444D-9878-08011AE1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93184-36E2-41E1-9AB6-DEC4BB08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F0D72-DCFD-4224-9F9D-E143A655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12079-5210-4E5D-84FF-3A40B88B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B9A13-1368-46CB-B8B6-C845BB3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1724D-E2C8-4E0A-8A91-984694452D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1F72-560F-4811-91DE-D8369375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8B40-6111-4B46-928C-5CEC04207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5382-9D40-43F9-BA1E-2B78A3E4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A6FB-DA6B-40F9-ABF6-A3802773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997F-2D9F-44A5-B16D-0C6CCBCE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9CD4-C354-4A46-A005-8EFAB19A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5720-91CC-4BDD-9701-0E97A4C8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EB99-2D73-4CB4-9424-F4E789CC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0B3D-6E47-4CF6-A4AD-FEA66EA5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E66C-FF81-4203-AACC-1D6DEBAD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3384-4025-4455-BC9A-066874A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97B6-9D05-446C-B226-A64BDD8C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A0C3-A7F8-43B7-8839-5A14775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7006-CCAA-4851-B423-BD9513B2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7AC6-0D93-4F3F-B06F-7E687F063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3620-64A1-4AFF-BCA5-DB58F741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DD60-4292-4A51-8BB4-D6E5F6D9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2011-CBF1-4579-A06D-78121023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ay 28.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FBEB-289A-421F-8347-A041C8F34812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 Narrow"/>
              </a:rPr>
              <a:t>Teens Mobile Games</a:t>
            </a: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10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13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3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ay 28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4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AB7B-7C16-4548-A6E7-4D314A0A8E75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 Narrow"/>
              </a:rPr>
              <a:t>Teens Mobile Games</a:t>
            </a: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101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104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5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847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May 28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6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847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B316-6C61-485B-BA0C-E04DE586EE78}" type="slidenum">
              <a:rPr b="0" lang="en-US" sz="1000" spc="-1" strike="noStrike">
                <a:solidFill>
                  <a:srgbClr val="464847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 Narrow"/>
              </a:rPr>
              <a:t>Teens Mobile Games</a:t>
            </a: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193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196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alenhart@pewinternet.org" TargetMode="External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Teens, Mobile &amp; Games</a:t>
            </a:r>
            <a:br>
              <a:rPr sz="3600"/>
            </a:br>
            <a:r>
              <a:rPr b="0" lang="en-US" sz="3600" spc="-1" strike="noStrike">
                <a:solidFill>
                  <a:srgbClr val="464847"/>
                </a:solidFill>
                <a:latin typeface="Arial Narrow"/>
              </a:rPr>
              <a:t>An Overview of Pew Internet Dat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a9a9a9"/>
                </a:solidFill>
                <a:latin typeface="Arial Narrow"/>
              </a:rPr>
              <a:t>Amanda Lenhart</a:t>
            </a:r>
            <a:br>
              <a:rPr sz="2800"/>
            </a:br>
            <a:r>
              <a:rPr b="0" lang="en-US" sz="2800" spc="-1" strike="noStrike">
                <a:solidFill>
                  <a:srgbClr val="a9a9a9"/>
                </a:solidFill>
                <a:latin typeface="Arial Narrow"/>
              </a:rPr>
              <a:t>FTC Brownbag</a:t>
            </a:r>
            <a:br>
              <a:rPr sz="2800"/>
            </a:br>
            <a:r>
              <a:rPr b="0" lang="en-US" sz="2800" spc="-1" strike="noStrike">
                <a:solidFill>
                  <a:srgbClr val="a9a9a9"/>
                </a:solidFill>
                <a:latin typeface="Arial Narrow"/>
              </a:rPr>
              <a:t>May 28, 2009</a:t>
            </a:r>
            <a:br>
              <a:rPr sz="2800"/>
            </a:br>
            <a:endParaRPr b="0" lang="en-US" sz="28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Other mobile device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ortable game players (Nintendo DS, PSP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wned predominately by younger teens 12-14 (67% vs. 44%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rops at age 14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oys more likely to own (61% of boys have one, 49% of girls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difference in use by Race/Ethnicity or S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SP: Skype calling and IM, internet, RSS feed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S(i): Pictochat (w/in 30-65), wireless gaming (30-65ft), WiFi gaming,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647712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October 18, 2008</a:t>
            </a:r>
            <a:endParaRPr b="0" lang="en-US" sz="1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97% of teens play video game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50% of teens played games “yesterday.”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86% of teens play on a console like the Xbox, PlayStation, or Wii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3% play games on a desktop or a laptop computer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0% use a portable gaming device like a Sony PlayStation Portable, a Nintendo DS, or a Game Boy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48% use a cell phone or handheld organizer to play games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47712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October 18, 2008</a:t>
            </a:r>
            <a:endParaRPr b="0" lang="en-US" sz="1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ost play many game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80% of teens play five or more different game genres, and 40% play eight or more types of games. 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Girls play an average of 6 different game genres; boys average 8 different types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647712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October 18, 2008</a:t>
            </a:r>
            <a:endParaRPr b="0" lang="en-US" sz="1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Game Genre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We asked about 14 different game genr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4% play racing games (NASCAR, Mario Kart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2% play puzzle games (Tetris, Solitaire, Bejeweled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8% play sports games (Madden, FiFA, Tony Hawk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7% play action games (GTA, Devil May Cry, Ratchet &amp; Clank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6% play adventure games (Legend of Zelda, Tomb Raider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1% play rhythm games (Guitar Hero, DDR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9% play strategy games (Civilization, StarCraft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9% play simulations (The Sims, Rollercoaster Tycoon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re…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647712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October 18, 2008</a:t>
            </a:r>
            <a:endParaRPr b="0" lang="en-US" sz="1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Game Genres, Cont.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9% play fighting games (Super Smash Bros, Tekken, Mortal Kombat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7% play first person shooters (Halo, Counter-Strike, Half-Life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6% play role playing games (Final Fantasy, Knights of the Old Republic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2% play survival horror games (Resident Evil, Silent Hill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1% play MMOG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0% use virtual world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MOGs and Virtual World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25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0% of teens use MMOG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30% of boys have played them; 11% of girl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0% of teens use virtual world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oys just as likely as girl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Younger teens more likely than older teens: 13% of 12-14 year olds; 8% of 15-17 year olds.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aily gamers more likely to play MMOGs and in Virtual world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3086280" cy="23144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95280" y="47242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64847"/>
                </a:solidFill>
                <a:latin typeface="Arial"/>
              </a:rPr>
              <a:t>Image courtesy of rosefirerising via flickr under creative commons</a:t>
            </a:r>
            <a:endParaRPr b="0" lang="en-US" sz="9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16765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19a00"/>
                </a:solidFill>
                <a:latin typeface="Arial Narrow"/>
              </a:rPr>
              <a:t>Thank You!</a:t>
            </a:r>
            <a:endParaRPr b="0" lang="en-US" sz="44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Amanda Lenhar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a9a9a9"/>
                </a:solidFill>
                <a:uFillTx/>
                <a:latin typeface="Arial"/>
                <a:hlinkClick r:id="rId2"/>
              </a:rPr>
              <a:t>alenhart@pewinternet.org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http://www.pewinternet.org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ethodology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RDD surveys with teens 12 to 17 and a parent or guardian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Sept-Nov 2007 (n=700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Nov-Feb 2008 (n=1102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Focus groups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s and their tool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7% of teens 12-17 own a game consol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4% of teens 12-17 own an iPod or Mp3 player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1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9a00"/>
                </a:solidFill>
                <a:latin typeface="Arial"/>
              </a:rPr>
              <a:t>71% of teens 12-17 own a cell pho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0% have a desktop or laptop computer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55% have a portable gaming device like a DS or a PSP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obile phone ownership growing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bile phone ownership is way up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5% of 12-17 year olds had them in 2004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3% in 2006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1% in early 2008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mputer ownership is stable at least over the past two year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88% of parents have mobile phon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5% of adults have a mobile pho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aveat: Concept of “ownership” varies from device to devic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Who has a mobile phone?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ge is very important – huge bump up in mobile phone ownership at age 14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2% of 12-13 year olds have a mobile pho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t age 14 jumps to 72%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y 17 - 84% of teens have a mobile pho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gender differences in ownership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significant difference in mobile phone ownership by race/ethnicity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ome differences by socio-economic status – but mostly a minor bump up in the highest income and education bracke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ternet users more likely than non users to have a cell phone – thought 50% of non-users have a phon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s and phone us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88% of teens talk to friends on a landlin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67% of teens talk to friends on a cell phon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94% of teens with cell phones use them to talk to friend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58% of all teens have sent text messag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76% of teens with cell phones have sent text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Daily: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51% of teens with cell phones talk to their friends on the cell phone every da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43% of teens send messages through online social networks da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38% of teens send text messages to each other da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32% of teens talk on their landline everyda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9% spend time with friends in pers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6% send instant messages everyda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6% send email da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s and phone use: Voice 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Girls more likely to talk on any kind of phone – landline or mobi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ge isn’t a factor in landline us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lder teens with a cell phone much more likely to talk on cell phone everyday;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Younger teens with a cell phone tend to use them for voice calls a few times a week or les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uburban kids a little less likely to talk on cell phone everyday; no difference by locale in cell phone ownership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s and text messaging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ext messaging daily up since 2006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7% of teens texted daily in 2006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8% text daily in 2008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4% of social network users have sent texts or IM through a social network site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Girls more likely than boys to text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lder teens 15-17 also more likely to text messag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racial/ethnic differences in texting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light bump up in frequency of texting by incom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t using twitter yet, via mobile or any other wa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t really going online w/ phone; but this is changing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What teens aren’t using:</a:t>
            </a:r>
            <a:br>
              <a:rPr sz="3200"/>
            </a:b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Likelihood of Twitter use by ag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21:58:07Z</dcterms:created>
  <dc:creator>Amanda L</dc:creator>
  <dc:description/>
  <dc:language>en-US</dc:language>
  <cp:lastModifiedBy>alenh</cp:lastModifiedBy>
  <dcterms:modified xsi:type="dcterms:W3CDTF">2009-05-27T22:03:22Z</dcterms:modified>
  <cp:revision>13</cp:revision>
  <dc:subject/>
  <dc:title>Slide 1</dc:title>
</cp:coreProperties>
</file>