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19D8-2DC1-4C76-AF98-8EDC8A30C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DA22-9E90-4021-97AD-4930ECB96F14}" type="slidenum">
              <a:rPr b="0" lang="en-US" sz="1200" spc="-1" strike="noStrike">
                <a:solidFill>
                  <a:srgbClr val="4648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F4AC-F58F-43F4-A6C8-E31FD23A693F}" type="slidenum">
              <a:rPr b="0" lang="en-US" sz="1200" spc="-1" strike="noStrike">
                <a:solidFill>
                  <a:srgbClr val="4648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phones, but also mobile gaming devices – another element of mobile connectivity that’s worth think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children have them, particularly the Sony DS, particularly young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phone ownership from Dec 2007 gadg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7% of cell phone users talk to their friends on a landline; 33% of cell owners talk to friends every day on land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% had a cell phone in 2004 and 10% of them used it to go 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had a pda in 2004, and 2% used it to go online. But with advent of iphone/itouch &amp; bberries more are going online with mobile phones. Price still an issue – data plans are expensive. Cheapest plan for iphone (in DC) =$75 a month pre-t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s: 11% use twitter or update a status online – (as of 6 months ago) – twitter users more mobile – more text, more mobile internet, more mobile news consum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Score Media Metrix chart showing likelihood of twitter use as deviating from the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mscore.com/blog/2009/04/twitter_traffic_explod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chart as – orange line is average likelihood of using twitter. 18-24 year olds are 12% less likely to use twitter than average, 12-17 year olds 41% less likely to tweet. 25-34 years olds are 30% more likely to twitter…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CAEF-DE2C-4DDB-BE8C-C071123F5A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B1BD-5E00-464B-A0AC-B407CDFF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340C5-2439-4346-A93F-327E5221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CCA3A-6DCA-42F4-9D6A-BEBD43685D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571F-A83F-4EB8-A698-9A20D51C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DAFA7-7878-46A4-9E03-927295F41E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B52EA-41ED-4189-93B3-7FB19017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42DB1-3656-4959-B5EB-82033278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349E5-3DDA-47A0-8336-E4E7C413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5927E-476F-434C-B1F8-B599AFB6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09B2-88DD-4A08-BF3E-EA34282C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16B15-53BA-4AB4-A4A4-7B919530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35663-EFEE-4D88-882D-1E0671EE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6A34C-CE97-4022-AAB7-7585D16A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7722B-FBE0-4693-96C3-2D70D7FE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90A6C-A7A6-4A89-B14C-9E642D8C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DB3EF-1C6E-4517-B137-47FAD7A0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6B4F3-9D5D-412C-9DBE-FFC89A54D1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F8D4-08ED-4746-9CB3-0F0034AB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6468-D487-4999-AE0C-7E7771D290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91D3-C36B-460B-AFE8-FC806C23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E5CD-064D-4031-9490-C9454958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04CC-BBE7-4E1D-AFF7-6DE41A19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CC0B-7953-451E-8C91-CEA3C1C0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8F55-20B3-4649-B287-A0A09386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B152-AD8C-4207-8CA7-ED193059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0630-9801-4962-80F5-D6B2AF7E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4431-0AAD-42C2-AA01-A595DE55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4E9F-3730-4B7B-B898-322B2D12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76D1-25CC-447C-B047-0B1D3E05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E177-2D63-4F39-BC16-F4566631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7450-71D8-443B-A51E-B5C6D399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C3BB-4CAC-4AD9-B6B3-00D73B2A01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77AC-B65A-47A0-9D0F-3DCE59E0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DD1B-3087-470E-AC75-519E5F12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6563-F9D0-41D0-8EE6-A7A15047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76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ay 28.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2360" y="6477120"/>
            <a:ext cx="45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ABF4-E825-44F7-872A-AE46C3C2E781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05000" y="6477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25520" y="6477120"/>
            <a:ext cx="0" cy="38088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847"/>
                </a:solidFill>
                <a:latin typeface="Arial Narrow"/>
              </a:rPr>
              <a:t>Teens Mobile Games</a:t>
            </a:r>
            <a:endParaRPr b="0" lang="en-US" sz="1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95280" y="1371600"/>
            <a:ext cx="784872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6477120" y="6477120"/>
            <a:ext cx="20520" cy="380880"/>
            <a:chOff x="6477120" y="6477120"/>
            <a:chExt cx="20520" cy="380880"/>
          </a:xfrm>
        </p:grpSpPr>
        <p:sp>
          <p:nvSpPr>
            <p:cNvPr id="10" name=""/>
            <p:cNvSpPr/>
            <p:nvPr/>
          </p:nvSpPr>
          <p:spPr>
            <a:xfrm>
              <a:off x="647712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49764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8458200" y="6477120"/>
            <a:ext cx="20520" cy="380880"/>
            <a:chOff x="8458200" y="6477120"/>
            <a:chExt cx="20520" cy="380880"/>
          </a:xfrm>
        </p:grpSpPr>
        <p:sp>
          <p:nvSpPr>
            <p:cNvPr id="13" name=""/>
            <p:cNvSpPr/>
            <p:nvPr/>
          </p:nvSpPr>
          <p:spPr>
            <a:xfrm>
              <a:off x="845820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7872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3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61864" t="59890" r="0" b="0"/>
          <a:stretch/>
        </p:blipFill>
        <p:spPr>
          <a:xfrm>
            <a:off x="1344600" y="750960"/>
            <a:ext cx="1660680" cy="53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2400" y="1371600"/>
            <a:ext cx="784836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3"/>
          </p:nvPr>
        </p:nvSpPr>
        <p:spPr>
          <a:xfrm>
            <a:off x="6476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ay 28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4"/>
          </p:nvPr>
        </p:nvSpPr>
        <p:spPr>
          <a:xfrm>
            <a:off x="8532360" y="6477120"/>
            <a:ext cx="45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221C-6201-445A-AD36-CE4FE4DB5803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05000" y="6477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25520" y="6477120"/>
            <a:ext cx="0" cy="38088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847"/>
                </a:solidFill>
                <a:latin typeface="Arial Narrow"/>
              </a:rPr>
              <a:t>Teens Mobile Games</a:t>
            </a:r>
            <a:endParaRPr b="0" lang="en-US" sz="1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371600"/>
            <a:ext cx="784872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477120" y="6477120"/>
            <a:ext cx="20520" cy="380880"/>
            <a:chOff x="6477120" y="6477120"/>
            <a:chExt cx="20520" cy="380880"/>
          </a:xfrm>
        </p:grpSpPr>
        <p:sp>
          <p:nvSpPr>
            <p:cNvPr id="101" name=""/>
            <p:cNvSpPr/>
            <p:nvPr/>
          </p:nvSpPr>
          <p:spPr>
            <a:xfrm>
              <a:off x="647712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9764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458200" y="6477120"/>
            <a:ext cx="20520" cy="380880"/>
            <a:chOff x="8458200" y="6477120"/>
            <a:chExt cx="20520" cy="380880"/>
          </a:xfrm>
        </p:grpSpPr>
        <p:sp>
          <p:nvSpPr>
            <p:cNvPr id="104" name=""/>
            <p:cNvSpPr/>
            <p:nvPr/>
          </p:nvSpPr>
          <p:spPr>
            <a:xfrm>
              <a:off x="845820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7872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61864" t="59890" r="0" b="0"/>
          <a:stretch/>
        </p:blipFill>
        <p:spPr>
          <a:xfrm>
            <a:off x="1344600" y="750960"/>
            <a:ext cx="1660680" cy="531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92400" y="1371600"/>
            <a:ext cx="784836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5"/>
          </p:nvPr>
        </p:nvSpPr>
        <p:spPr>
          <a:xfrm>
            <a:off x="6476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64847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847"/>
                </a:solidFill>
                <a:latin typeface="Arial Narrow"/>
              </a:rPr>
              <a:t>May 28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6"/>
          </p:nvPr>
        </p:nvSpPr>
        <p:spPr>
          <a:xfrm>
            <a:off x="8532360" y="6477120"/>
            <a:ext cx="45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64847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CC48-D65A-49ED-813E-C96D0E2CDD62}" type="slidenum">
              <a:rPr b="0" lang="en-US" sz="1000" spc="-1" strike="noStrike">
                <a:solidFill>
                  <a:srgbClr val="464847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05000" y="6477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25520" y="6477120"/>
            <a:ext cx="0" cy="38088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847"/>
                </a:solidFill>
                <a:latin typeface="Arial Narrow"/>
              </a:rPr>
              <a:t>Teens Mobile Games</a:t>
            </a:r>
            <a:endParaRPr b="0" lang="en-US" sz="1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1371600"/>
            <a:ext cx="784872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477120" y="6477120"/>
            <a:ext cx="20520" cy="380880"/>
            <a:chOff x="6477120" y="6477120"/>
            <a:chExt cx="20520" cy="380880"/>
          </a:xfrm>
        </p:grpSpPr>
        <p:sp>
          <p:nvSpPr>
            <p:cNvPr id="193" name=""/>
            <p:cNvSpPr/>
            <p:nvPr/>
          </p:nvSpPr>
          <p:spPr>
            <a:xfrm>
              <a:off x="647712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9764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8458200" y="6477120"/>
            <a:ext cx="20520" cy="380880"/>
            <a:chOff x="8458200" y="6477120"/>
            <a:chExt cx="20520" cy="380880"/>
          </a:xfrm>
        </p:grpSpPr>
        <p:sp>
          <p:nvSpPr>
            <p:cNvPr id="196" name=""/>
            <p:cNvSpPr/>
            <p:nvPr/>
          </p:nvSpPr>
          <p:spPr>
            <a:xfrm>
              <a:off x="845820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7872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64847"/>
                </a:solidFill>
                <a:latin typeface="Arial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3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rcRect l="61864" t="59890" r="0" b="0"/>
          <a:stretch/>
        </p:blipFill>
        <p:spPr>
          <a:xfrm>
            <a:off x="1344600" y="750960"/>
            <a:ext cx="1660680" cy="5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292400" y="1371600"/>
            <a:ext cx="784836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alenhart@pewinternet.org" TargetMode="External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Teens, Mobile &amp; Games</a:t>
            </a:r>
            <a:br>
              <a:rPr sz="3600"/>
            </a:br>
            <a:r>
              <a:rPr b="0" lang="en-US" sz="3600" spc="-1" strike="noStrike">
                <a:solidFill>
                  <a:srgbClr val="464847"/>
                </a:solidFill>
                <a:latin typeface="Arial Narrow"/>
              </a:rPr>
              <a:t>An Overview of Pew Internet Dat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a9a9a9"/>
                </a:solidFill>
                <a:latin typeface="Arial Narrow"/>
              </a:rPr>
              <a:t>Amanda Lenhart</a:t>
            </a:r>
            <a:br>
              <a:rPr sz="2800"/>
            </a:br>
            <a:r>
              <a:rPr b="0" lang="en-US" sz="2800" spc="-1" strike="noStrike">
                <a:solidFill>
                  <a:srgbClr val="a9a9a9"/>
                </a:solidFill>
                <a:latin typeface="Arial Narrow"/>
              </a:rPr>
              <a:t>FTC Brownbag</a:t>
            </a:r>
            <a:br>
              <a:rPr sz="2800"/>
            </a:br>
            <a:r>
              <a:rPr b="0" lang="en-US" sz="2800" spc="-1" strike="noStrike">
                <a:solidFill>
                  <a:srgbClr val="a9a9a9"/>
                </a:solidFill>
                <a:latin typeface="Arial Narrow"/>
              </a:rPr>
              <a:t>May 28, 2009</a:t>
            </a:r>
            <a:br>
              <a:rPr sz="2800"/>
            </a:br>
            <a:endParaRPr b="0" lang="en-US" sz="28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Other mobile device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ortable game players (Nintendo DS, PSP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wned predominately by younger teens 12-14 (67% vs. 44%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rops at age 14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oys more likely to own (61% of boys have one, 49% of girls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 difference in use by Race/Ethnicity or SE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SP: Skype calling and IM, internet, RSS feed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S(i): Pictochat (w/in 30-65), wireless gaming (30-65ft), WiFi gaming,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647712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847"/>
                </a:solidFill>
                <a:latin typeface="Arial Narrow"/>
              </a:rPr>
              <a:t>October 18, 2008</a:t>
            </a:r>
            <a:endParaRPr b="0" lang="en-US" sz="1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97% of teens play video game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50% of teens played games “yesterday.”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86% of teens play on a console like the Xbox, PlayStation, or Wii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73% play games on a desktop or a laptop computer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0% use a portable gaming device like a Sony PlayStation Portable, a Nintendo DS, or a Game Boy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48% use a cell phone or handheld organizer to play games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647712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847"/>
                </a:solidFill>
                <a:latin typeface="Arial Narrow"/>
              </a:rPr>
              <a:t>October 18, 2008</a:t>
            </a:r>
            <a:endParaRPr b="0" lang="en-US" sz="1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Most play many game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80% of teens play five or more different game genres, and 40% play eight or more types of games. 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Girls play an average of 6 different game genres; boys average 8 different types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3"/>
          <p:cNvSpPr/>
          <p:nvPr/>
        </p:nvSpPr>
        <p:spPr>
          <a:xfrm>
            <a:off x="647712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847"/>
                </a:solidFill>
                <a:latin typeface="Arial Narrow"/>
              </a:rPr>
              <a:t>October 18, 2008</a:t>
            </a:r>
            <a:endParaRPr b="0" lang="en-US" sz="1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Game Genre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We asked about 14 different game genre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4% play racing games (NASCAR, Mario Kart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2% play puzzle games (Tetris, Solitaire, Bejeweled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8% play sports games (Madden, FiFA, Tony Hawk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7% play action games (GTA, Devil May Cry, Ratchet &amp; Clank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6% play adventure games (Legend of Zelda, Tomb Raider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1% play rhythm games (Guitar Hero, DDR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9% play strategy games (Civilization, StarCraft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9% play simulations (The Sims, Rollercoaster Tycoon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ore…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3"/>
          <p:cNvSpPr/>
          <p:nvPr/>
        </p:nvSpPr>
        <p:spPr>
          <a:xfrm>
            <a:off x="647712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847"/>
                </a:solidFill>
                <a:latin typeface="Arial Narrow"/>
              </a:rPr>
              <a:t>October 18, 2008</a:t>
            </a:r>
            <a:endParaRPr b="0" lang="en-US" sz="1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Game Genres, Cont.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9% play fighting games (Super Smash Bros, Tekken, Mortal Kombat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7% play first person shooters (Halo, Counter-Strike, Half-Life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36% play role playing games (Final Fantasy, Knights of the Old Republic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32% play survival horror games (Resident Evil, Silent Hill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1% play MMOG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10% use virtual world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MMOGs and Virtual World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25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20% of teens use MMOG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30% of boys have played them; 11% of girl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0% of teens use virtual world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Boys just as likely as girl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Younger teens more likely than older teens: 13% of 12-14 year olds; 8% of 15-17 year olds.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Daily gamers more likely to play MMOGs and in Virtual world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3086280" cy="23144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95280" y="47242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64847"/>
                </a:solidFill>
                <a:latin typeface="Arial"/>
              </a:rPr>
              <a:t>Image courtesy of rosefirerising via flickr under creative commons</a:t>
            </a:r>
            <a:endParaRPr b="0" lang="en-US" sz="9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167652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19a00"/>
                </a:solidFill>
                <a:latin typeface="Arial Narrow"/>
              </a:rPr>
              <a:t>Thank You!</a:t>
            </a:r>
            <a:endParaRPr b="0" lang="en-US" sz="44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Amanda Lenhart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a9a9a9"/>
                </a:solidFill>
                <a:uFillTx/>
                <a:latin typeface="Arial"/>
                <a:hlinkClick r:id="rId2"/>
              </a:rPr>
              <a:t>alenhart@pewinternet.org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http://www.pewinternet.org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Methodology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RDD surveys with teens 12 to 17 and a parent or guardian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Sept-Nov 2007 (n=700)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Nov-Feb 2008 (n=1102)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Focus groups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Teens and their tool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77% of teens 12-17 own a game consol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74% of teens 12-17 own an iPod or Mp3 player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19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19a00"/>
                </a:solidFill>
                <a:latin typeface="Arial"/>
              </a:rPr>
              <a:t>71% of teens 12-17 own a cell pho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0% have a desktop or laptop computer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55% have a portable gaming device like a DS or a PSP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Mobile phone ownership growing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obile phone ownership is way up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5% of 12-17 year olds had them in 2004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3% in 2006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1% in early 2008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mputer ownership is stable at least over the past two year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88% of parents have mobile phone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5% of adults have a mobile phon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aveat: Concept of “ownership” varies from device to devic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Who has a mobile phone?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ge is very important – huge bump up in mobile phone ownership at age 14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2% of 12-13 year olds have a mobile phon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t age 14 jumps to 72%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y 17 - 84% of teens have a mobile phon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 gender differences in ownership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 significant difference in mobile phone ownership by race/ethnicity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ome differences by socio-economic status – but mostly a minor bump up in the highest income and education bracke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ternet users more likely than non users to have a cell phone – thought 50% of non-users have a phon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Teens and phone use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88% of teens talk to friends on a landlin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67% of teens talk to friends on a cell phon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94% of teens with cell phones use them to talk to friend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58% of all teens have sent text messag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76% of teens with cell phones have sent text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Daily: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51% of teens with cell phones talk to their friends on the cell phone every da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43% of teens send messages through online social networks dail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38% of teens send text messages to each other dail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32% of teens talk on their landline everyda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9% spend time with friends in person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6% send instant messages everyda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6% send email dail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Teens and phone use: Voice 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Girls more likely to talk on any kind of phone – landline or mobi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ge isn’t a factor in landline us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lder teens with a cell phone much more likely to talk on cell phone everyday;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Younger teens with a cell phone tend to use them for voice calls a few times a week or les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uburban kids a little less likely to talk on cell phone everyday; no difference by locale in cell phone ownership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Teens and text messaging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ext messaging daily up since 2006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7% of teens texted daily in 2006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38% text daily in 2008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4% of social network users have sent texts or IM through a social network site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Girls more likely than boys to text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lder teens 15-17 also more likely to text messag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 racial/ethnic differences in texting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light bump up in frequency of texting by incom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t using twitter yet, via mobile or any other wa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t really going online w/ phone; but this is changing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What teens aren’t using:</a:t>
            </a:r>
            <a:br>
              <a:rPr sz="3200"/>
            </a:b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Likelihood of Twitter use by age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21:58:07Z</dcterms:created>
  <dc:creator>Amanda L</dc:creator>
  <dc:description/>
  <dc:language>en-US</dc:language>
  <cp:lastModifiedBy>alenh</cp:lastModifiedBy>
  <dcterms:modified xsi:type="dcterms:W3CDTF">2009-05-27T22:03:22Z</dcterms:modified>
  <cp:revision>13</cp:revision>
  <dc:subject/>
  <dc:title>Slide 1</dc:title>
</cp:coreProperties>
</file>