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4150-C556-4D97-BDEA-80506B271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ssive solicitations are where the solicitor tries to make offline cont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al of Adolescent Health December 2007 issue has a special issue entirely devoted to research on Cyberbully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barra M, Mitchell KJ, Wolak J, Finkelhor D. Examining characteristics and associated distress related to Internet harassment: Findings from the Second Youth Internet Safety Survey.  Pediatrics.  2006.  118A(4):e1169-117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barra ML, Diener-West M, Leaf PJ.  Examining the overlap in internet harassment and school bullying: implications for school intervention. J Adolescent Health. 2007 Dec;41(6 Suppl 1):S42-5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barra ML. Linkages between depressive symptomatology and Internet harassment among young regular Internet users. Cyberpsychol Behav. 2004 Apr;7(2):247-5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% of teens say there is a filter on the computer they use at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% of teens believe that there is monitoring software on their home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a quarter of parents (23%) say inappropriate media content is one of their “top” concerns as a parent, while another 51% say it’s a “big” concern, but not one of the top concerns. “ (KFF report on “Parents, Children and Media” from June of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vs non-technical means of keeping kids safe 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technical easier to do – don’t cost anyth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inition of stranger – “anyone unknown to you or your friends” – could be peer, could be adult, could be innocuous, could be nefario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8DD-A6F3-445D-922D-7ECBABB6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1BE-2A0D-418B-80D0-F75D20F6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86D-BD6E-41E7-BDEA-4C991B1F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991-721B-4532-AB6A-B7F7AE1C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D0F37-E2D4-49A9-84B1-A51412E35B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48D14-30AF-4EAE-9C2F-15CAA028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E0354-4C92-41DA-A6FA-BE570117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F7DD6-353A-4EDC-91BF-1AF281EC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51825-8306-457A-8911-9EBBD463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BF3F3-D5B8-4A7C-B083-1EDEE95F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BA6CD-1B7F-4ABB-8A89-716799E8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D1D-C595-43FC-94DA-B1D36C80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84EE1-C22E-48CC-955B-6F0B9D6B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E1FCB-9839-4FE8-B1B3-B0CB6A87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2C6D8-F573-45F4-9539-AC40A4D1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999C5-3C09-483E-A076-12E458E8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9B9CC-E74B-4F78-BB21-96867D8828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EFE-1287-432E-A612-2DC48AAD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685FF-59B2-42A1-99D7-4AF87C9D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59E53-9906-487A-A92B-2512251D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35CC9-7CA7-4DA5-9EF7-618537B4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63B-AB5A-4CB5-BC0E-C6D14B87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0B035-2A83-490F-9055-251AEB15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BF50E-76E9-4D0B-AED9-53884EA1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829FB-703B-4F46-928D-7CBE1A04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08F9E-D761-485B-BD70-B79B6BD6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67AD0-A3FE-4822-911F-D7EE0094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F548D-6FC6-4C62-91A0-2A7AFB3E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31D54-3E78-444B-962C-D5C6FBBF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5DB88-BB18-4D15-AC5B-1EE73605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142B8-89BC-4942-9CA5-F8C98324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F27A5-E1C6-4065-825C-4AE2C2DFFC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8C2-CBE7-4609-B4A8-D71F562A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25A96-B768-4F2F-849F-613FA114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B0EF9D-EBE7-43D8-8B93-D5C06431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B99F4-EB02-4884-B37D-E7F02EEF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80585-2C22-4650-B1D4-D58707C8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5237C-D3FD-4663-B280-4B695072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E1720-D593-4C05-A22C-048AF461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347A53-2E11-4C8D-A3E8-97C528CB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7C9CF-4E93-4730-A14E-0F51CEE3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A2681-B43E-4341-91E2-C8C628B9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E8948B-D4FD-4EAE-9630-988B382F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E81-1792-4186-A21C-F2E83CDE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49D1C8-557F-4616-892E-8E645143C5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014-F593-44C6-B408-94A2080E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0087D-9E46-429E-BE79-AA541FC351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4C7A9-6F63-41B2-8294-44A21B09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25233-054F-4342-854C-744679EF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2286-78FA-44CA-AC48-FF071E26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AEB6-469C-42EB-81C5-BC6ADDEA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9517D-C0F8-4758-91B5-C36261A6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AA5F8-69F5-48F8-AF2D-7A2D73FF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06C-5BEB-4773-B494-9798D68D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833F0-0E94-47EB-B1EF-D1EEA10D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73EFA-B7F0-4713-8161-74359809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2869-8629-4AAB-BD38-0D021342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719A-0A9F-416F-B516-98DBF07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0090-3877-4F53-814C-1FDB4E5941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993-F6C5-468B-A3CD-341A3E1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7924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A083-B8FD-49FF-8584-63A956FD63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447C-1500-4F1F-A257-38B36B66F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ne 30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111D-A80C-4D4D-9DDF-8C73DDAC6E58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ernet Safety Town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51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54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3BCB-7D45-466C-922B-E27859A4D3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E248-7363-45E9-9A35-219ED2B11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ne 30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0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2644-0974-4143-ABE6-F4090A71FD65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ernet Safety Town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183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186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c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2949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1"/>
          </p:nvPr>
        </p:nvSpPr>
        <p:spPr>
          <a:xfrm>
            <a:off x="6476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64847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847"/>
                </a:solidFill>
                <a:latin typeface="Arial Narrow"/>
              </a:rPr>
              <a:t>June 30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2"/>
          </p:nvPr>
        </p:nvSpPr>
        <p:spPr>
          <a:xfrm>
            <a:off x="8532360" y="6477120"/>
            <a:ext cx="45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64847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D78A-169B-47C1-845F-5D6569B43399}" type="slidenum">
              <a:rPr b="0" lang="en-US" sz="1000" spc="-1" strike="noStrike">
                <a:solidFill>
                  <a:srgbClr val="464847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05000" y="6477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25520" y="6477120"/>
            <a:ext cx="0" cy="38088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847"/>
                </a:solidFill>
                <a:latin typeface="Arial Narrow"/>
              </a:rPr>
              <a:t>Internet Safety Town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1371600"/>
            <a:ext cx="784872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477120" y="6477120"/>
            <a:ext cx="20520" cy="380880"/>
            <a:chOff x="6477120" y="6477120"/>
            <a:chExt cx="20520" cy="380880"/>
          </a:xfrm>
        </p:grpSpPr>
        <p:sp>
          <p:nvSpPr>
            <p:cNvPr id="275" name=""/>
            <p:cNvSpPr/>
            <p:nvPr/>
          </p:nvSpPr>
          <p:spPr>
            <a:xfrm>
              <a:off x="647712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9764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458200" y="6477120"/>
            <a:ext cx="20520" cy="380880"/>
            <a:chOff x="8458200" y="6477120"/>
            <a:chExt cx="20520" cy="380880"/>
          </a:xfrm>
        </p:grpSpPr>
        <p:sp>
          <p:nvSpPr>
            <p:cNvPr id="278" name=""/>
            <p:cNvSpPr/>
            <p:nvPr/>
          </p:nvSpPr>
          <p:spPr>
            <a:xfrm>
              <a:off x="8458200" y="64771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78720" y="6477120"/>
              <a:ext cx="0" cy="380880"/>
            </a:xfrm>
            <a:prstGeom prst="line">
              <a:avLst/>
            </a:prstGeom>
            <a:ln w="9360">
              <a:solidFill>
                <a:srgbClr val="4648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3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rcRect l="0" t="0" r="0" b="21620"/>
          <a:stretch/>
        </p:blipFill>
        <p:spPr>
          <a:xfrm>
            <a:off x="68400" y="6524640"/>
            <a:ext cx="11430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1447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rcRect l="61864" t="59890" r="0" b="0"/>
          <a:stretch/>
        </p:blipFill>
        <p:spPr>
          <a:xfrm>
            <a:off x="1344600" y="750960"/>
            <a:ext cx="1660680" cy="531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292400" y="1371600"/>
            <a:ext cx="7848360" cy="0"/>
          </a:xfrm>
          <a:prstGeom prst="line">
            <a:avLst/>
          </a:prstGeom>
          <a:ln w="9360">
            <a:solidFill>
              <a:srgbClr val="4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19a00"/>
                </a:solidFill>
                <a:latin typeface="Arial Narrow"/>
              </a:rPr>
              <a:t>Teens, Online Stranger Contact &amp; Cyberbullying</a:t>
            </a:r>
            <a:br>
              <a:rPr sz="3200"/>
            </a:b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What the research is telling us…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a9a9a9"/>
                </a:solidFill>
                <a:latin typeface="Arial Narrow"/>
              </a:rPr>
              <a:t>Amanda Lenhart</a:t>
            </a:r>
            <a:br>
              <a:rPr sz="2400"/>
            </a:br>
            <a:r>
              <a:rPr b="0" lang="en-US" sz="2400" spc="-1" strike="noStrike">
                <a:solidFill>
                  <a:srgbClr val="a9a9a9"/>
                </a:solidFill>
                <a:latin typeface="Arial Narrow"/>
              </a:rPr>
              <a:t>NECC Internet Safety Town Hall</a:t>
            </a:r>
            <a:br>
              <a:rPr sz="2400"/>
            </a:br>
            <a:r>
              <a:rPr b="0" lang="en-US" sz="2400" spc="-1" strike="noStrike">
                <a:solidFill>
                  <a:srgbClr val="a9a9a9"/>
                </a:solidFill>
                <a:latin typeface="Arial Narrow"/>
              </a:rPr>
              <a:t>June 30, 2008</a:t>
            </a:r>
            <a:br>
              <a:rPr sz="2400"/>
            </a:br>
            <a:r>
              <a:rPr b="0" lang="en-US" sz="2400" spc="-1" strike="noStrike">
                <a:solidFill>
                  <a:srgbClr val="a9a9a9"/>
                </a:solidFill>
                <a:latin typeface="Arial Narrow"/>
              </a:rPr>
              <a:t>San Antonio, TX</a:t>
            </a:r>
            <a:br>
              <a:rPr sz="2400"/>
            </a:br>
            <a:endParaRPr b="0" lang="en-US" sz="2400" spc="-1" strike="noStrike">
              <a:solidFill>
                <a:srgbClr val="819a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Sexual Victimization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13% of teens (1 in 7) reported unwanted sexual solicitation online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Most recipient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id not view solicitations as threatening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Ended the situations easily and effectively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Unwanted contact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Did not necessarily come from adults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Were not necessarily devious or intended to lure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ggressive solicitations and distressing solicitations reported by 4%  (1 in 25) of respondents.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64847"/>
                </a:solidFill>
                <a:uFillTx/>
                <a:latin typeface="Arial"/>
              </a:rPr>
              <a:t>Wanted contact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4% reported close online friendships with adults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0.5% (4 people) reported relationships with sexual aspect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Source:  UNH Crimes Against Children Research Center’s Youth and Law Enforcement Research, National Juvenile Online Victimization Studies 1 &amp; 2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2FDD3-194B-4517-BAFC-D7E607E25C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34730A36-B87E-4B27-BBD2-FDB1FC5971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Internet-based sexual victimization: Myth vs. reality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847"/>
                </a:solidFill>
                <a:latin typeface="Arial"/>
              </a:rPr>
              <a:t>MYTH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Internet predators: 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Are pedophiles who target young children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Lie about their ages &amp; motive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Trick children into divulging personal information or use info they have naively posted online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Stalk, abduct and forcibly assault victim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52520" y="2057400"/>
            <a:ext cx="3505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REALITY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Victims are teens, not young children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Few offenders lie about being youth</a:t>
            </a:r>
            <a:r>
              <a:rPr b="0" lang="en-US" sz="1200" spc="-1" strike="noStrike">
                <a:solidFill>
                  <a:srgbClr val="46484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ost are open about their sexual intentions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Violence is rare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Meetings and sex most often are voluntary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64847"/>
                </a:solidFill>
                <a:latin typeface="Arial"/>
              </a:rPr>
              <a:t>- From UNH 2005 Youth &amp; Law Enforcement N-JOV studies</a:t>
            </a:r>
            <a:r>
              <a:rPr b="0" lang="en-US" sz="1600" spc="-1" strike="noStrike">
                <a:solidFill>
                  <a:srgbClr val="46484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D9CAD-59A3-41C0-8A21-D955919794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2717AC0A-6986-46D5-88CD-A49221C916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– Strangers (4)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How did teens respond to stranger contact?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Of teens who were contacted by a stranger: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5% just ignored it or deleted it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21% responded so they could find out more about the person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8% responded and asked to be left alo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3% told an adult or someone in authority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F10D82-52D9-4F46-AFAE-83676392C9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58FDE69C-1D8B-4E2F-8B5B-E7C93B8D34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– Bullies 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32% of online teens have experienced one of the following forms of online harassment, also called “cyberbullying”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15% of teens reported having private material (IM, txt, email) forwarded without permission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13% had received threatening messages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13% said someone had spread a rumor about them onli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% had someone post an embarrassing picture of them online without permission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E2A1-4F1E-445E-8979-1B044D0C74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0A2094D0-A8AC-47AC-BDFE-9FA0F0687D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– Bullies (2)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Girls, particularly older girls, report more online bullying; 38% of all online girls reported experiencing some type of online bullying 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Social network users are also more likely to report online bullying – 39% of SNS users have experience it.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But most teens (67%) think bullying happens more OFFLINE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90835-67DF-44D6-B1FF-96DBD9ACDF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D9CCFC01-6020-489D-BB94-7F57CD8545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– Harassment (3)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prevalence rate of Internet harassment appears to be stable</a:t>
            </a: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.</a:t>
            </a:r>
            <a:r>
              <a:rPr b="1" lang="en-US" sz="900" spc="-1" strike="noStrike">
                <a:solidFill>
                  <a:srgbClr val="464847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School is by far the most common place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youth report being bullied (31%) versus elsewhere (e.g., 13% online)</a:t>
            </a:r>
            <a:br>
              <a:rPr sz="900"/>
            </a:br>
            <a:r>
              <a:rPr b="0" lang="en-US" sz="900" spc="-1" strike="noStrike">
                <a:solidFill>
                  <a:srgbClr val="464847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The majority (59%) of Internet harassment comes from other minor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Youth who report being harassed online report a myriad of concurrent psychosocial problems offline, too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64847"/>
                </a:solidFill>
                <a:latin typeface="Arial"/>
              </a:rPr>
              <a:t>Source: Michele Ybarra’s work on the 2005 Youth Internet Safety Survey fielded by UNH CCRC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2ADA8-51D4-471D-A3EF-9187DB31CF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F61AD49E-B647-4208-921A-C5DE174D81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847"/>
                </a:solidFill>
                <a:latin typeface="Arial Narrow"/>
              </a:rPr>
              <a:t>All the world is not a stage...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6% of all teens with profiles online have in some way restricted access to it – includes hiding it completely, taking it down, or making it privat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7% of profile-owning teens have a currently visible online profil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those with a visible profile, 59% say only their friends can see their profile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0% say anyone can see profil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6% of teens with profiles say they have posted at least some fake information to their profil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2578d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22578d"/>
                </a:solidFill>
                <a:latin typeface="Arial"/>
              </a:rPr>
              <a:t>I use a pseudonym, who is 24. Because I regard myself as an intellectual, it’s easier to be taken seriously if people don’t know they’re talking to a 16 year old.”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2578d"/>
                </a:solidFill>
                <a:latin typeface="Arial"/>
              </a:rPr>
              <a:t>- Boy, Late High Schoo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7B544-A055-4EE2-ACC9-E85342DD033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F0B2A71C-50D5-4637-83AC-EF73581D9C9B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Exposure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4% of parents of online teens say that their child has been exposed to inappropriate language or sexual or violent content online (2007 Cable in Classroom/Commonsense Media/Harris Interactive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3% of parents say inappropriate media content is one of their “top” concerns as a parent, 51% say it’s a “big” concern, but not top. (Kaiser Family Foundation, </a:t>
            </a:r>
            <a:r>
              <a:rPr b="0" i="1" lang="en-US" sz="2000" spc="-1" strike="noStrike">
                <a:solidFill>
                  <a:srgbClr val="464847"/>
                </a:solidFill>
                <a:latin typeface="Arial"/>
              </a:rPr>
              <a:t>Parents Children &amp; Media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, 2007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0% of 15-17 year olds have accidentally stumbled onto pornographic sites; 23% “very” or “somewhat often.” (KFF, Generation Rx, 2001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f teens who looked for health information online, 46% were blocked from non-pornographic sites by filtering technology. (KFF, Generation Rx, 2001)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ABF1E-A2CA-499A-BFC1-6576EDDCDF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FD98E741-E8E2-477F-B959-D224F97F6236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Parents &amp; control of internet access and use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4% of families have their </a:t>
            </a: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omputers in a public location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5% of parents say they </a:t>
            </a: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check up on their teens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after they go onlin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3% of families </a:t>
            </a: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45% of families have </a:t>
            </a:r>
            <a:r>
              <a:rPr b="1" lang="en-US" sz="2000" spc="-1" strike="noStrike">
                <a:solidFill>
                  <a:srgbClr val="464847"/>
                </a:solidFill>
                <a:latin typeface="Arial"/>
              </a:rPr>
              <a:t>monitoring software</a:t>
            </a: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 on the computer that their child use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Kids aware of monitoring &amp; filtering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Parents more likely to report rules around content viewed rather than time spent with media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Internet is most regulated media in the hom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Only 7% of parents have no rules about media use at all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34D7D-893B-4620-BC40-D2D750F617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B557306-9DDC-4F4E-AAF8-C118DFF3EA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Final Thought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Only a very small number of teens report uncomfortable online contact; most ably handle the contact by deleting or ignoring it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Very little association between contact and information posted onli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The tiny number of teens who are victimized most often have a host of other issues, seek attention online, and are less receptive to traditional outreach. 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Bullying is reported by same % of teens as stranger contact; and yet happens more offli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1DF82-D3ED-4744-9EF0-50BD911949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087001E-04EF-45C3-A3BD-3E4BB91E46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Methodology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Interviewed 700 parent-child pairs in November 2007 and 935 parent – child pairs in Oct-Nov 2006 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Teens ages 12-17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Nationally representative sample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Focus groups conducted in 2004, 2006 &amp; 2007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UNH Crimes Against Children Research Center data (Wolak, Finkelhor et al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Internet Solutions for Kids (Ybarra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D7ADE-C8CB-4F17-9019-B3D3960F50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F0E6C5AC-5AF7-4B5B-B092-5CE0946338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9a00"/>
                </a:solidFill>
                <a:latin typeface="Arial Narrow"/>
              </a:rPr>
              <a:t>New report: Writing, Technology &amp; Teens</a:t>
            </a:r>
            <a:endParaRPr b="0" lang="en-US" sz="3600" spc="-1" strike="noStrike">
              <a:solidFill>
                <a:srgbClr val="819a00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09480" y="2742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Amanda Lenhart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Pew Internet &amp; American Life Project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alenhart@pewinternet.org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847"/>
                </a:solidFill>
                <a:latin typeface="Arial"/>
              </a:rPr>
              <a:t>http://www.pewinternet.org</a:t>
            </a:r>
            <a:endParaRPr b="0" lang="en-US" sz="36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Teen internet use basic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162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94% of teens 12-17 go onli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89% of online teens go online from home, and most of them go online from home most often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77% of teen go online at school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71% go online from friends or relatives hous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0% go online from a library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6% of households with teens go online via broadband, 22% via dial up, and 10% do not have access at home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63% of online teens go online daily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ADF2E6-24D8-44A5-AEDA-4CFED81E2B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46E8B812-3CEF-4E97-99D9-1688BDB7B1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What are teens doing online?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94% go online to do research for school assignments; 48% do so on a typical day.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81% go to websites about movies, TV shows, music groups, or sports stars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77% go online to get news 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64% of online teens have created some kind of content online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7% have watched a video on a video-sharing site like YouTube or GoogleVideo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55% go online to get information about a college, university or other school that they are thinking about attending. 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38% have bought something online like books, clothes or music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847"/>
                </a:solidFill>
                <a:latin typeface="Arial"/>
              </a:rPr>
              <a:t>28% have looked online for health, dieting or physical fitness information</a:t>
            </a:r>
            <a:endParaRPr b="0" lang="en-US" sz="20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4D22B-5353-47EF-97B9-801AE78F09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1C2B489B-CB3C-406A-A5B9-0ED4D709E28B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SNS: Demographic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58% of online teens have a profile onlin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Girls, particularly older girls, more likely to use SNS than boys (70% of girls 15-17 have profile online, compared to 57% of boys 15-17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Age is major factor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12 -14 year-olds; 38% have an online profil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15 -17 year-olds; 77% have an online profil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Other demographic factors not significant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Race/ethnicity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910387-389B-4291-B940-CC242BBE1F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0FDD932D-EFE9-4993-AAE9-897F0F5127C6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cerns in Online Safety Sphere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Inappropriate contact (wanted/unwanted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Strangers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Bullies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Inappropriate content (wanted/wanted)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Accidental Exposur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Deliberate Exposure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1CFC-DAF9-42A9-A37F-BE97D2236A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AEFDC4F6-328A-4D93-A2D3-B5258CEFDD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- Strangers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162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Definition of “complete stranger:” “…[someone] who has no connection at all to you or any of your friends.”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32% of online teens have been contacted online by a complete stranger.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64847"/>
                </a:solidFill>
                <a:uFillTx/>
                <a:latin typeface="Arial"/>
              </a:rPr>
              <a:t>Of teens who have been contacted</a:t>
            </a: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, 23% say they were made scared or uncomfortable by the stranger contact.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847"/>
                </a:solidFill>
                <a:latin typeface="Arial"/>
              </a:rPr>
              <a:t>Overall, 7% of online teens experienced disturbing stranger contact. </a:t>
            </a:r>
            <a:endParaRPr b="0" lang="en-US" sz="28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3BECA-1E9F-4E7D-B48A-780BE9E35A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E1C16E24-2A21-4F26-9AEF-EB18CDA0AA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– Strangers (2)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Factors that predict a greater likelihood of online contact (% reporting stranger contact in each group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Posting photos (49%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Having a profile online (44%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Female (39%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Flirting via social networks (53%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Factors that predict a greater likelihood of scary or uncomfortable online contact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Female (11% vs. 4% of males)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4B6CE-941F-4D39-B7AB-88703377DA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0D327BB-F12F-4346-9CB4-FA8C5ABA1A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847"/>
                </a:solidFill>
                <a:latin typeface="Arial Narrow"/>
              </a:rPr>
              <a:t>Contact -- Strangers (3)</a:t>
            </a:r>
            <a:endParaRPr b="0" lang="en-US" sz="3200" spc="-1" strike="noStrike">
              <a:solidFill>
                <a:srgbClr val="464847"/>
              </a:solidFill>
              <a:latin typeface="Arial Narr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No association between stranger contact and any other content posted to online profiles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Social network users more likely to have been contacted by strangers, but not more likely to find that contact scary or uncomfortable 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847"/>
                </a:solidFill>
                <a:latin typeface="Arial"/>
              </a:rPr>
              <a:t>Having internet monitoring software (but not filters) is correlated with lower reported levels of contact by someone unknown to the teen or his/her friends.</a:t>
            </a:r>
            <a:endParaRPr b="0" lang="en-US" sz="2400" spc="-1" strike="noStrike">
              <a:solidFill>
                <a:srgbClr val="4648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DEF69D-836C-4BE7-B5DF-4F60A3C99C8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83863641-ED4D-449C-B550-667B340336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14:10:11Z</dcterms:created>
  <dc:creator>Jenny Smith</dc:creator>
  <dc:description/>
  <dc:language>en-US</dc:language>
  <cp:lastModifiedBy>alenh</cp:lastModifiedBy>
  <dcterms:modified xsi:type="dcterms:W3CDTF">2008-07-02T14:57:42Z</dcterms:modified>
  <cp:revision>49</cp:revision>
  <dc:subject/>
  <dc:title>TITLE OF PRESENTATION</dc:title>
</cp:coreProperties>
</file>