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59EF-2513-4EC3-ABA3-3AE423EAA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ssive solicitations are where the solicitor tries to make offline cont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al of Adolescent Health December 2007 issue has a special issue entirely devoted to research on Cyberbully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barra M, Mitchell KJ, Wolak J, Finkelhor D. Examining characteristics and associated distress related to Internet harassment: Findings from the Second Youth Internet Safety Survey.  Pediatrics.  2006.  118A(4):e1169-117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barra ML, Diener-West M, Leaf PJ.  Examining the overlap in internet harassment and school bullying: implications for school intervention. J Adolescent Health. 2007 Dec;41(6 Suppl 1):S42-5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barra ML. Linkages between depressive symptomatology and Internet harassment among young regular Internet users. Cyberpsychol Behav. 2004 Apr;7(2):247-5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% of teens say there is a filter on the computer they use at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% of teens believe that there is monitoring software on their home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a quarter of parents (23%) say inappropriate media content is one of their “top” concerns as a parent, while another 51% say it’s a “big” concern, but not one of the top concerns. “ (KFF report on “Parents, Children and Media” from June of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vs non-technical means of keeping kids safe 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technical easier to do – don’t cost anyth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inition of stranger – “anyone unknown to you or your friends” – could be peer, could be adult, could be innocuous, could be nefario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DED-1A7A-4071-BB42-C23C85E5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1D1-A58A-4C62-94D2-7F7DE1D5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D93-8592-4D43-B01A-60F22653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02F-EA73-44B9-A663-7EEE2AB0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C1A7A-D146-4145-BFD7-6A359CEBAC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EDA4C-0C9D-429F-9CD7-CB36B3FA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7D379-15D5-4B52-B68E-ACF4E722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A4D93-C8A9-4F01-A5D0-B83C2DB7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783DC-446A-4269-A843-95EACE88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8BF74-5C3A-4092-9333-C75BCF27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B2CAF-4141-4E0E-ABE0-6106E52C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5C4-1831-4C43-B61D-82F5C809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C1FA1-8E10-4FBF-B02A-AC6835C0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6AEA2-0871-4A1D-9420-9A7FFB26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B8936-FD34-4365-B476-E8503AE9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D914A-95A2-4754-BB92-9F49E85B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CC900-281F-4B12-B2FC-5E57AE88AF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5F8-03E4-4971-A9B2-3C0FFBC8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0C42F-88AB-493A-8FF8-62E09929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A61E1-2D2F-46F9-9A96-A8440571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7FE8D-CCAA-463E-8E9C-22149561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9E6-27E4-4BA3-9858-7DF6A9EA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76CBD-F506-480F-BB2D-D970BA78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4D09A-6BDC-4E6B-AF65-44882E4F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8F490-2DAD-44E2-8E6A-25894A81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2829A-8FDA-4F51-A443-F95008B9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62091-885F-44C4-B778-ECA05D28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311F7-7D1B-4A8D-B109-5EAD3431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551AA-E96C-4A10-8477-4D16F60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A350A-F749-4B1E-B632-A6AEDA36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C30BA-0A78-4667-B162-E2B67EE7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9AAA4-AFBA-4BD0-AD07-DC14719532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147-EB2D-4D9E-A48B-3755BFF8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8F4B2-E142-403F-8CB2-C9A0E6A5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66D86-D5B5-4B12-AE37-5D9A4326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76E22-7484-42C3-93AF-CE9D12E7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E9781-3F8A-441B-B762-3798B774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F7497-2CDD-4B06-8B15-735CCDF5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0DAB3C-7DD9-42B9-9D0E-2E683F8A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7D3D7-19C4-4963-AE58-F7ADC00C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9302C7-B8EF-424F-92A6-ED6F44C9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D86A9-0B77-4EFE-A11F-ECBE61F6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E845E-BC93-4A76-B4D7-3C764806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988-5FA3-4C45-8B7B-A53A03F5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EDC5F-8996-4C53-BA51-B730A660E2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820-6422-4012-863F-01C5BC8D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59384-09AD-4E9A-B001-F81D6F4394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447F8-21F9-425E-918F-F9C76DF8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173D-6738-4CAA-B3A3-8E939230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C0115-260E-4985-897F-D62C478B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11E1-CF1B-4361-A89C-33149092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6A803-367B-4290-B276-3ED7105D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FAAA-9927-4DB1-B981-4F33C570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A78-5604-4297-BD18-B801CB86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90FD-19EF-4AC6-B41C-9EA3D435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12984-665D-4159-A7A0-2E25F4B8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91247-4B10-4633-B850-E2120B39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46E80-9D50-4554-8C70-E1712983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DDE1-B58D-4FC5-919A-E1BC3EE12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8AC-7B87-46F4-AAF9-B0A062C8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21AC-AF97-4E22-A072-8748CC8345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5501-C576-4247-95B3-595DC4ECD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ne 30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0A04-A2FB-4D32-AE73-E66506889E47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ernet Safety Town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51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54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B236-5EA0-4C20-B5BD-F4280022F33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DE86-895B-4306-8F1C-34E2119FE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ne 30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0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D21A-CB39-4A17-BBED-2541ADE63B47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ernet Safety Town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183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186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1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64847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June 30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2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64847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1F0A-15FE-491F-9B45-038BD61C9218}" type="slidenum">
              <a:rPr b="0" lang="en-US" sz="1000" spc="-1" strike="noStrike">
                <a:solidFill>
                  <a:srgbClr val="464847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 Narrow"/>
              </a:rPr>
              <a:t>Internet Safety Town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275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278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19a00"/>
                </a:solidFill>
                <a:latin typeface="Arial Narrow"/>
              </a:rPr>
              <a:t>Teens, Online Stranger Contact &amp; Cyberbullying</a:t>
            </a:r>
            <a:br>
              <a:rPr sz="3200"/>
            </a:b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What the research is telling us…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a9a9a9"/>
                </a:solidFill>
                <a:latin typeface="Arial Narrow"/>
              </a:rPr>
              <a:t>Amanda Lenhart</a:t>
            </a:r>
            <a:br>
              <a:rPr sz="2400"/>
            </a:br>
            <a:r>
              <a:rPr b="0" lang="en-US" sz="2400" spc="-1" strike="noStrike">
                <a:solidFill>
                  <a:srgbClr val="a9a9a9"/>
                </a:solidFill>
                <a:latin typeface="Arial Narrow"/>
              </a:rPr>
              <a:t>NECC Internet Safety Town Hall</a:t>
            </a:r>
            <a:br>
              <a:rPr sz="2400"/>
            </a:br>
            <a:r>
              <a:rPr b="0" lang="en-US" sz="2400" spc="-1" strike="noStrike">
                <a:solidFill>
                  <a:srgbClr val="a9a9a9"/>
                </a:solidFill>
                <a:latin typeface="Arial Narrow"/>
              </a:rPr>
              <a:t>June 30, 2008</a:t>
            </a:r>
            <a:br>
              <a:rPr sz="2400"/>
            </a:br>
            <a:r>
              <a:rPr b="0" lang="en-US" sz="2400" spc="-1" strike="noStrike">
                <a:solidFill>
                  <a:srgbClr val="a9a9a9"/>
                </a:solidFill>
                <a:latin typeface="Arial Narrow"/>
              </a:rPr>
              <a:t>San Antonio, TX</a:t>
            </a:r>
            <a:br>
              <a:rPr sz="2400"/>
            </a:br>
            <a:endParaRPr b="0" lang="en-US" sz="24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Sexual Victimization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3% of teens (1 in 7) reported unwanted sexual solicitation online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Most recipient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id not view solicitations as threatening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Ended the situations easily and effectively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Unwanted contact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id not necessarily come from adults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Were not necessarily devious or intended to lure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ggressive solicitations and distressing solicitations reported by 4%  (1 in 25) of respondents.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Wanted contact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4% reported close online friendships with adults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0.5% (4 people) reported relationships with sexual aspect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Source:  UNH Crimes Against Children Research Center’s Youth and Law Enforcement Research, National Juvenile Online Victimization Studies 1 &amp; 2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8C321-2A29-4D7F-9711-4B4361F690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2C93B2F1-A79A-484C-B040-96AF0D8F87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Internet-based sexual victimization: Myth vs. reality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847"/>
                </a:solidFill>
                <a:latin typeface="Arial"/>
              </a:rPr>
              <a:t>MYTH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ternet predators: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re pedophiles who target young children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Lie about their ages &amp; motive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rick children into divulging personal information or use info they have naively posted online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talk, abduct and forcibly assault victim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525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REALITY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Victims are teens, not young children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ew offenders lie about being youth</a:t>
            </a:r>
            <a:r>
              <a:rPr b="0" lang="en-US" sz="1200" spc="-1" strike="noStrike">
                <a:solidFill>
                  <a:srgbClr val="46484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ost are open about their sexual intention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Violence is rare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eetings and sex most often are voluntary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- From UNH 2005 Youth &amp; Law Enforcement N-JOV studies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68E22-96F9-42C3-B3E1-E78AA14F28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3137E061-06CB-4AC6-A852-83C41B4B6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– Strangers (4)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How did teens respond to stranger contact?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Of teens who were contacted by a stranger: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5% just ignored it or deleted it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21% responded so they could find out more about the person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8% responded and asked to be left alo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3% told an adult or someone in authority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3837E3-2AA7-4A41-88B4-28AD27305C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461AE4D5-FB91-46F8-B344-31D9D45BA7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– Bullies 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32% of online teens have experienced one of the following forms of online harassment, also called “cyberbullying”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15% of teens reported having private material (IM, txt, email) forwarded without permission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13% had received threatening messages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13% said someone had spread a rumor about them onli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% had someone post an embarrassing picture of them online without permission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C120F-4CD7-4217-8B2F-5C57152967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8556C6B7-019C-4CC7-B310-47710E1173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– Bullies (2)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Girls, particularly older girls, report more online bullying; 38% of all online girls reported experiencing some type of online bullying 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Social network users are also more likely to report online bullying – 39% of SNS users have experience it.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But most teens (67%) think bullying happens more OFFLINE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48AE1-703E-41A2-84AB-1938E3D793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3A490F92-15C7-43BB-8DF7-F81E0015C0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– Harassment (3)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revalence rate of Internet harassment appears to be stable</a:t>
            </a: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.</a:t>
            </a:r>
            <a:r>
              <a:rPr b="1" lang="en-US" sz="900" spc="-1" strike="noStrike">
                <a:solidFill>
                  <a:srgbClr val="464847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chool is by far the most common place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youth report being bullied (31%) versus elsewhere (e.g., 13% online)</a:t>
            </a:r>
            <a:br>
              <a:rPr sz="900"/>
            </a:br>
            <a:r>
              <a:rPr b="0" lang="en-US" sz="900" spc="-1" strike="noStrike">
                <a:solidFill>
                  <a:srgbClr val="464847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majority (59%) of Internet harassment comes from other minor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Youth who report being harassed online report a myriad of concurrent psychosocial problems offline, too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Source: Michele Ybarra’s work on the 2005 Youth Internet Safety Survey fielded by UNH CCR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0C088-B170-4628-8682-4D2B6D96EF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306120B7-1F2F-4741-962E-BBCE1D0E3B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847"/>
                </a:solidFill>
                <a:latin typeface="Arial Narrow"/>
              </a:rPr>
              <a:t>All the world is not a stage...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6% of all teens with profiles online have in some way restricted access to it – includes hiding it completely, taking it down, or making it privat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7% of profile-owning teens have a currently visible online profil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those with a visible profile, 59% say only their friends can see their profi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0% say anyone can see profil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6% of teens with profiles say they have posted at least some fake information to their profil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2578d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22578d"/>
                </a:solidFill>
                <a:latin typeface="Arial"/>
              </a:rPr>
              <a:t>I use a pseudonym, who is 24. Because I regard myself as an intellectual, it’s easier to be taken seriously if people don’t know they’re talking to a 16 year old.”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2578d"/>
                </a:solidFill>
                <a:latin typeface="Arial"/>
              </a:rPr>
              <a:t>- Boy, Late High Schoo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BAD72-F6FC-431C-8F37-5E9EA52E5D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87603C78-6345-4CC6-8B08-B4EF5CD5C6D5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Exposure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4% of parents of online teens say that their child has been exposed to inappropriate language or sexual or violent content online (2007 Cable in Classroom/Commonsense Media/Harris Interactive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3% of parents say inappropriate media content is one of their “top” concerns as a parent, 51% say it’s a “big” concern, but not top. (Kaiser Family Foundation,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arents Children &amp; Media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, 2007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0% of 15-17 year olds have accidentally stumbled onto pornographic sites; 23% “very” or “somewhat often.” (KFF, Generation Rx, 2001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teens who looked for health information online, 46% were blocked from non-pornographic sites by filtering technology. (KFF, Generation Rx, 2001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385C2B-8327-4BE6-847F-979A6D64890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ACB03361-7071-4D52-8B5A-2F775C34408D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Parents &amp; control of internet access and use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4% of families have their </a:t>
            </a: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omputers in a public location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5% of parents say they </a:t>
            </a: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heck up on their teens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after they go onlin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3% of families </a:t>
            </a: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5% of families have </a:t>
            </a: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monitoring software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on the computer that their child us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Kids aware of monitoring &amp; filtering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rents more likely to report rules around content viewed rather than time spent with media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ternet is most regulated media in the hom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nly 7% of parents have no rules about media use at al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C2EDC-1E8E-4504-B67C-BD4EDE4782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367128C-0380-46C8-ABBB-33F4F4C943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Final Thought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Only a very small number of teens report uncomfortable online contact; most ably handle the contact by deleting or ignoring it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Very little association between contact and information posted onli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The tiny number of teens who are victimized most often have a host of other issues, seek attention online, and are less receptive to traditional outreach. 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Bullying is reported by same % of teens as stranger contact; and yet happens more offli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D38B6-9E9C-40FB-B344-BD5413959E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F202A15-677F-4548-83EA-35B3B5451E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Methodology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Interviewed 700 parent-child pairs in November 2007 and 935 parent – child pairs in Oct-Nov 2006 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Teens ages 12-17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Nationally representative sample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Focus groups conducted in 2004, 2006 &amp; 2007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UNH Crimes Against Children Research Center data (Wolak, Finkelhor et al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Internet Solutions for Kids (Ybarra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2F2C-EE89-4EBB-A66C-FFAF0723F0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31B04D89-3354-4F4E-B58A-7A720F40C9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New report: Writing, Technology &amp; Teens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09480" y="2742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Amanda Lenhart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Pew Internet &amp; American Life Project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alenhart@pewinternet.org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http://www.pewinternet.org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Teen internet use basic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162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94% of teens 12-17 go onli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89% of online teens go online from home, and most of them go online from home most often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77% of teen go online at school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71% go online from friends or relatives hous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0% go online from a library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6% of households with teens go online via broadband, 22% via dial up, and 10% do not have access at home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3% of online teens go online daily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35ECF-8704-43A3-9DE1-5E1AF82CA7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C7FAD56D-7522-40BC-9A8A-164B10BB5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What are teens doing online?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94% go online to do research for school assignments; 48% do so on a typical da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81% go to websites about movies, TV shows, music groups, or sports star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7% go online to get news 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4% of online teens have created some kind of content onlin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7% have watched a video on a video-sharing site like YouTube or GoogleVideo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5% go online to get information about a college, university or other school that they are thinking about attending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38% have bought something online like books, clothes or music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8% have looked online for health, dieting or physical fitness information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990D1-5079-43F0-A6BB-096244073D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3DB03EEB-487B-4301-9C29-0C21B83FB912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SNS: Demographic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58% of online teens have a profile onli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Girls, particularly older girls, more likely to use SNS than boys (70% of girls 15-17 have profile online, compared to 57% of boys 15-17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Age is major factor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12 -14 year-olds; 38% have an online profil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15 -17 year-olds; 77% have an online profil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Other demographic factors not significant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Race/ethnicity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EB7E0-BF6D-4E1E-AD6D-7248CFA787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AB3DF1B0-61DA-4AF6-8B91-F62CAA0AA4E1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cerns in Online Safety Sphere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Inappropriate contact (wanted/unwanted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Strangers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Bullies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Inappropriate content (wanted/wanted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Accidental Exposur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Deliberate Exposur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45044-BAB7-45E6-93A1-182EBF5BEA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09E51BFE-76B6-44DB-B2C6-DA97EBFB72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- Stranger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162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Definition of “complete stranger:” “…[someone] who has no connection at all to you or any of your friends.”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32% of online teens have been contacted online by a complete stranger.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64847"/>
                </a:solidFill>
                <a:uFillTx/>
                <a:latin typeface="Arial"/>
              </a:rPr>
              <a:t>Of teens who have been contacted</a:t>
            </a: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, 23% say they were made scared or uncomfortable by the stranger contact.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Overall, 7% of online teens experienced disturbing stranger contact. 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B16FA-2E32-4D72-9334-B535E48687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B666727D-C292-4B19-A422-29EA13F18F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– Strangers (2)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Factors that predict a greater likelihood of online contact (% reporting stranger contact in each group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Posting photos (49%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Having a profile online (44%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Female (39%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Flirting via social networks (53%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Factors that predict a greater likelihood of scary or uncomfortable online contact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Female (11% vs. 4% of males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3BA7F-6EE3-46BE-B0C1-EE6B53842A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F1D2B44-CEB8-473F-B168-878F8657C6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-- Strangers (3)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No association between stranger contact and any other content posted to online profiles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Social network users more likely to have been contacted by strangers, but not more likely to find that contact scary or uncomfortable 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Having internet monitoring software (but not filters) is correlated with lower reported levels of contact by someone unknown to the teen or his/her friends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4506EC-0ED5-45BB-BFE4-0831AA718D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F0DA64EE-DE8C-4E31-A2B0-0F581F654C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14:10:11Z</dcterms:created>
  <dc:creator>Jenny Smith</dc:creator>
  <dc:description/>
  <dc:language>en-US</dc:language>
  <cp:lastModifiedBy>alenh</cp:lastModifiedBy>
  <dcterms:modified xsi:type="dcterms:W3CDTF">2008-07-02T14:57:42Z</dcterms:modified>
  <cp:revision>49</cp:revision>
  <dc:subject/>
  <dc:title>TITLE OF PRESENTATION</dc:title>
</cp:coreProperties>
</file>